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media/image1.pct" ContentType="image/x-pict"/>
  <Override PartName="/ppt/media/image2.jpeg" ContentType="image/jpeg"/>
  <Override PartName="/ppt/media/image3.jpeg" ContentType="image/jpeg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59CE-4196-4C27-99C9-303F7A0CE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FFDD-0395-481C-865E-BB69507F8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C3FC-82B4-4A4B-842F-327AD4737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A583-AEAA-4CFF-87AB-D59E21DF2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C4528-A5BA-4AAB-83C7-5ECDD5640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291FC-CD1B-4537-A15A-A4B1F3DCA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B4F84-176A-4F95-A2BB-0C2CF7A1B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0CE82-FC14-472F-888E-6AED37700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C3E4F-29BC-4EF2-9598-59C9B9DB9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2F4E5-E532-4969-9F5B-059869E0E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D2F00-48E3-4B05-A254-8E8F40C9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7DBD-130C-419E-8129-315751088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EB72E-7F59-40F4-A621-82906A04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96C4B-A4CC-4E03-89D0-0213D29C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8E79F-3AC7-466E-A8E2-53041254C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05AFA-3F1F-492D-B96F-B5BF78CFE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3B2B7-0410-4933-978A-A58E31DC2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EA58-BB3A-4A06-BA32-4BE9F5039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8CA1-B9EE-486F-80AF-B7845280E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1FB5-9961-4186-8A4C-CC39B98B8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CE47-F79E-4143-9320-C3B93E155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3DE1-8894-48A0-8E84-A348D4D1B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049C-1840-4418-9626-19B6BEC2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E7A6-57D9-4B43-8BBC-1ABB80C3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59436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indent="-182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280160" indent="-182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645920" indent="-182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645920" indent="-182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645920" indent="-182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1479A-8EEA-4030-BE8E-6B397E73C72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9D9B1-CE3F-420B-8F44-65FFF3CC553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mailto:atricia.foley@po.state.ct.us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Overview of CMT4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549080" y="3962520"/>
            <a:ext cx="603252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tty Foley, Reading/Language Arts Consulta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ichelle Leon, Education Consulta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SDE, School Improvement and Literacy Uni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8580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CMT 4 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600200" y="1219320"/>
            <a:ext cx="67816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CMT4 Reading, students will take the Reading Comprehension test and the Degrees of Reading Power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ding Comprehension test will have two 45 minute s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P will have one 45 minute s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ding Comprehension test uses mostly authentic, published passages and a combination of multiple choice and open-ended i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P test has non-fiction passages and multiple choice i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ding Comprehension and DRP will be combined to create a student’s total Reading sc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CMT4 Reading Framework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spects of Read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ming a General Understand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veloping Interpret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king Reader/Text Connec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ining the Content and Struct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ontexts for Read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ding for Literary Experie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ding for Inform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ding to Perform a Task (grades 5-8 only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60948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CMT4 Reading Comprehe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371600" y="1905120"/>
          <a:ext cx="6400800" cy="3123720"/>
        </p:xfrm>
        <a:graphic>
          <a:graphicData uri="http://schemas.openxmlformats.org/drawingml/2006/table">
            <a:tbl>
              <a:tblPr/>
              <a:tblGrid>
                <a:gridCol w="3200400"/>
                <a:gridCol w="320040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a00"/>
                          </a:solidFill>
                          <a:latin typeface="Franklin Gothic Book"/>
                        </a:rPr>
                        <a:t>CMT-3 Framewor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a00"/>
                          </a:solidFill>
                          <a:latin typeface="Franklin Gothic Book"/>
                        </a:rPr>
                        <a:t>CMT-4 Framewor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a00"/>
                          </a:solidFill>
                          <a:latin typeface="Franklin Gothic Book"/>
                        </a:rPr>
                        <a:t>Forming an Initial Understand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a00"/>
                          </a:solidFill>
                          <a:latin typeface="Franklin Gothic Book"/>
                        </a:rPr>
                        <a:t>Forming a General Understand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a00"/>
                          </a:solidFill>
                          <a:latin typeface="Franklin Gothic Book"/>
                        </a:rPr>
                        <a:t>Developing an Interpre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a00"/>
                          </a:solidFill>
                          <a:latin typeface="Franklin Gothic Book"/>
                        </a:rPr>
                        <a:t>Developing Interpre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a00"/>
                          </a:solidFill>
                          <a:latin typeface="Franklin Gothic Book"/>
                        </a:rPr>
                        <a:t>Demonstrating a Critical St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a00"/>
                          </a:solidFill>
                          <a:latin typeface="Franklin Gothic Book"/>
                        </a:rPr>
                        <a:t>Making Reader/Text Connec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a00"/>
                          </a:solidFill>
                          <a:latin typeface="Franklin Gothic Book"/>
                        </a:rPr>
                        <a:t>Examining the Content and Struc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1752480" y="914400"/>
          <a:ext cx="6248520" cy="2371680"/>
        </p:xfrm>
        <a:graphic>
          <a:graphicData uri="http://schemas.openxmlformats.org/drawingml/2006/table">
            <a:tbl>
              <a:tblPr/>
              <a:tblGrid>
                <a:gridCol w="3030480"/>
                <a:gridCol w="1166760"/>
                <a:gridCol w="1060560"/>
                <a:gridCol w="990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Gr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# of sess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# of objectiv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# reading contex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# of passages/for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# of ite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"/>
          <p:cNvSpPr/>
          <p:nvPr/>
        </p:nvSpPr>
        <p:spPr>
          <a:xfrm>
            <a:off x="1752480" y="45720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Reading Comprehension Strands and Items CMT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981080" y="4114800"/>
          <a:ext cx="6124680" cy="2466720"/>
        </p:xfrm>
        <a:graphic>
          <a:graphicData uri="http://schemas.openxmlformats.org/drawingml/2006/table">
            <a:tbl>
              <a:tblPr/>
              <a:tblGrid>
                <a:gridCol w="2773440"/>
                <a:gridCol w="577800"/>
                <a:gridCol w="506520"/>
                <a:gridCol w="504720"/>
                <a:gridCol w="650880"/>
                <a:gridCol w="577800"/>
                <a:gridCol w="533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Gr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# of sess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# of str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# reading contex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# of passages/for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# of ite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"/>
          <p:cNvSpPr/>
          <p:nvPr/>
        </p:nvSpPr>
        <p:spPr>
          <a:xfrm>
            <a:off x="1905120" y="3505320"/>
            <a:ext cx="647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Reading Comprehension Strands and Items CMT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5800" y="15228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Scoring the CMT Reading Comprehension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n-ended responses are scored holistically by trained r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ponses are scored on a 0-2 point 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ach response is scored by one r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ubrics are used to s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ponses are scored for ideas.  Spelling, punctuation, grammar are not conside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85800" y="15228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CMT4 Open ended i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 open ended items are multiple part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ach question includes the languag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omic Sans MS"/>
              </a:rPr>
              <a:t>Support your answer with information from the text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rade 3 - Fishing With Frien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nk about a fishing trip that you have heard about, seen on TV, or been on.  Write a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rie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aragraph telling how that fishing trip was different from the one in this story.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se information from the story to explain your answer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.  Making Reader/Text Conne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 Make connections between the text and outside experiences and knowledg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066680" y="1295280"/>
            <a:ext cx="708660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Score Point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he response shows little ability to use textual information and does not make important associations and/or connections between the text, other texts and or outside experiences and knowledg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Unicode MS"/>
              </a:rPr>
              <a:t>The response shows little or no ability to make connections and/or makes irrelevant connections between the text and prior knowledge/experienc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Score Point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he response demonstrates some ability to make connections between the text, other texts and/or outside experiences and knowledge, but responses fail to provide relevant information from the text as support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Unicode MS"/>
              </a:rPr>
              <a:t>The response shows some ability to make some connections between texts and outside experience and knowledge, but the responses lack depth and/or suppor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Score Point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he response demonstrates thoughtful and clear connections between texts, other texts and/or outside experiences and knowledge. Connections and responses are supported with relevant exampl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Unicode MS"/>
              </a:rPr>
              <a:t>The response shows the ability to make understandable connections and provides adequate suppo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523880" y="228600"/>
            <a:ext cx="6248520" cy="66294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28600" y="5335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or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523880" y="152280"/>
            <a:ext cx="5938920" cy="64008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228600" y="457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or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85800" y="152280"/>
            <a:ext cx="6870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990720"/>
            <a:ext cx="7772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CLB legislation mandates the testing of students in Grades 3-8 and Grade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MT, Generation 4 (CMT4) will be administered to students in grades 3-8 for the first time in March 1-28,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rect Assessment of Writing, March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eas assessed are Mathematics, Reading, Wri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cience will be assessed beginning in March 2008 in Grades 5 and 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905120" y="228600"/>
            <a:ext cx="5932440" cy="64771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57200" y="5335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ore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Socket"/>
              </a:rPr>
              <a:t>CMT4 DR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38080" y="160020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45 minutes of testing time for grades 3-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Grades 3-4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6 passage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42 mc i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Grades 5-8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7 passage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49 mc i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2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CMT4 Wri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udents will take Direct Assessment of Writing and Editing &amp; Revising and the scores will be combined for the total Writing sco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changes in test time or length from CMT3 to CMT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rect Assessment of Writing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5 minu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diting &amp; Revis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0 minu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CMT4 Editing &amp; Revis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passage will combine editing and composing/revising ite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diting &amp; Revising test items have been written to include the sentence in the stem so students are not forced to go back to the passa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 grades 7-8, the sentences in the passages are numbered instead of the lin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ltiple-choice items used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CMT4 DA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Grades 3-4   Narrativ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Grades 5-6   Expositor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Grades 7-8   Persuasiv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In grade 8, the prompt includes some additional background information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ponses are scored holistically and are evaluated for elaboration, development, organization and fluenc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Scoring the DA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n-ended responses are scored holistically by trained read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ponses are scored on a 1-6 point sca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ach response is scored by at least two read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ubrics are used to sco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ponses are scored for fluency, details and organization.  Spelling, punctuation, grammar are not considere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1760400" y="555480"/>
          <a:ext cx="5622840" cy="5748480"/>
        </p:xfrm>
        <a:graphic>
          <a:graphicData uri="http://schemas.openxmlformats.org/drawingml/2006/table">
            <a:tbl>
              <a:tblPr/>
              <a:tblGrid>
                <a:gridCol w="639720"/>
                <a:gridCol w="49831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riting Promp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ink about a day when you had something special happen.  What happened on that day that was so special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rite a story about that special da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ad the sentence below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agine that a gorilla walked into your classroom and sat down 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desk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rite a story about what happened nex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ou have just heard that your school is closed due to snow.  What do you do? Write a letter to a friend in which you explain the best way to spend a snowy da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at do you usually do on a weekend in the summer?  What do you do on a weekend in the winter? Write a comparison of your weekend activities in the summer and winte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our local school board has decided to lengthen the school day by one hour.  What is your opinion on the best way to use this additional hour?  Write a letter to your principal expressing your opinion on the best way to use the additional hour and presenting reasons that will convince the principal to agree with your posi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ere is a budget crunch at your middle school, and it is certain that many of the non-core classes and activities the school currently offers will be cut.  All programs are in danger:  sports, band, choir, computer club, drama club, debate, and other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our principal wants to give students an opportunity to express their point of view about which extracurricular activities they think are more importan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rite an essay for your principal arguing why ONE of the extracurricular programs your school currently offers should continue to receive support, even if no other program can surviv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685800" y="152280"/>
            <a:ext cx="6870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CMT 4 Sc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1447920"/>
            <a:ext cx="8458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ience test development started in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ience item writing workshop was held in March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des 5 and 8 will be tested in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st to be aligned with new curriculum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urriculum-embedded performance tasks have been developed for grades 3-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rst Science pilot in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ltiple choice and open-ended items will be included on the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posed testing times are 65 minutes for grade 5 and 70 minutes for grade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200"/>
                </a:solidFill>
                <a:latin typeface="Comic Sans MS"/>
              </a:rPr>
              <a:t>Assessment Liter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nowledge of tes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rategies for answering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ing time effectiv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derstanding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-checking work after compl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85800" y="15228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200"/>
                </a:solidFill>
                <a:latin typeface="Comic Sans MS"/>
              </a:rPr>
              <a:t>Building Assessment Liter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 timed tests and instructional activities to practice p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ve students paraphrase directions for classroom/test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view student responses to questions used in classroom assessments and focus on how to answer questions or revise open-ended responses to impro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 rubrics with students to familiarize them with expec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09480" y="457200"/>
            <a:ext cx="8336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Testing Special Education </a:t>
            </a:r>
            <a:br>
              <a:rPr sz="4000"/>
            </a:b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and ELL Stud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47920" y="1981080"/>
            <a:ext cx="7497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special education students must take the statewide assess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MT Skills Checklist is an alternate assessment available for students in special edu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L students who are in a US school for 10 months or less may be exempt from the reading and writing tests but must take the math t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other ELL students must take the statewide assess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commodations are available for special education and ELL stud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685800" y="15228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What does this mean for instruc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 the Language Arts Framework (CMT strands are embedded) to align district curriculum with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 the resource available, such as the CMT4 Handbooks, to help teachers and students become familiar with the questions as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 research-based best pract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ign classroom and district assessments with CMT/LA Frame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t high expec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143000" y="304920"/>
            <a:ext cx="73152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Resources found </a:t>
            </a:r>
            <a:br>
              <a:rPr sz="4800"/>
            </a:b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on the CSDE web site:</a:t>
            </a:r>
            <a:br>
              <a:rPr sz="4800"/>
            </a:b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www.state.ct.us/s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3124080"/>
            <a:ext cx="76960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MT Hand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nguage Arts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nguage Arts Framework Compa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MT Data @ www.cmtreport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ontact Inform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tty Foley – 860-713-676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</a:rPr>
              <a:t>p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atricia.foley@po.state.ct.u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chelle Leon – 860-713-6748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</a:rPr>
              <a:t>michelle.leon@po.state.ct.u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8580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CMT 4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137160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velopment for CMT4 began in 20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jority of piloting in spring 2003, 2004 and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umable test books are being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necticut teachers were responsible for writing 30% of the items included on the CMT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necticut teachers are involved in the test design, review of items and review of scoring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09480"/>
            <a:ext cx="7696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Contributors to Test Developmen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30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urriculum Specia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sessment Specia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esting Comp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tent Advisory Committ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airness Advisory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chor Review Committ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066680" y="60948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Critical Steps in the Development Proces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493560" indent="-4935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termine content to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lect tes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reate test specif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view items with CT teac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ilot with CT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ore test items and review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lect items to use on test 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minister the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57200" y="6094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Test For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4300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though there are exceptions, a new form of the CMT is administered every two years. All forms within a generation are equival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generation usually spans 5 to 7 years and allows the testing program to change and evolve over time.  Test content, item formats, and scoring procedures are updated and revised as appropri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85800" y="15228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CMT4 Mathema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em types– multiple-choice, open-ended and grid items at grades 5-8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st is aligned with the revised Curriculum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5 content strands asse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ulers for some sessions at grades 3-8, calculators for some sessions at grades 5-8, formula card for all sessions grade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7324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CMT4 Language A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523880" y="2057400"/>
          <a:ext cx="6302520" cy="239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057400"/>
                    <a:ext cx="6302520" cy="23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9T19:43:53Z</dcterms:created>
  <dc:creator>csde</dc:creator>
  <dc:description/>
  <dc:language>en-US</dc:language>
  <cp:lastModifiedBy>Matthew Fischer</cp:lastModifiedBy>
  <cp:lastPrinted>2006-02-08T21:08:19Z</cp:lastPrinted>
  <dcterms:modified xsi:type="dcterms:W3CDTF">2006-02-08T21:09:49Z</dcterms:modified>
  <cp:revision>50</cp:revision>
  <dc:subject/>
  <dc:title>CMT 4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02369116</vt:r8>
  </property>
  <property fmtid="{D5CDD505-2E9C-101B-9397-08002B2CF9AE}" pid="3" name="_AuthorEmail">
    <vt:lpwstr>rbirdsell@casciac.org</vt:lpwstr>
  </property>
  <property fmtid="{D5CDD505-2E9C-101B-9397-08002B2CF9AE}" pid="4" name="_AuthorEmailDisplayName">
    <vt:lpwstr>Regina Birdsell</vt:lpwstr>
  </property>
  <property fmtid="{D5CDD505-2E9C-101B-9397-08002B2CF9AE}" pid="5" name="_EmailSubject">
    <vt:lpwstr/>
  </property>
  <property fmtid="{D5CDD505-2E9C-101B-9397-08002B2CF9AE}" pid="6" name="_PreviousAdHocReviewCycleID">
    <vt:r8>-253936927</vt:r8>
  </property>
</Properties>
</file>