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372-A0B2-481F-A9D5-76F5BEA8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488-C60F-46AC-8726-D775458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411-BE6D-4C61-9AE1-C44FBF95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021-42FE-44D4-8517-3FF7E6FF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0761-88B3-4B60-A43F-AF2B49C4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1B2E-5731-4032-B296-9BEA8618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AD53-F779-42D3-B371-C56913E0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C0E8-E284-49AB-90FE-93C1CD66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1B4F-9366-4C85-94E3-E91856C3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42D6-4146-4891-8F42-CC083C61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042A-2106-467F-80F5-9BDDD0EB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0C3-842E-4F91-BB5E-BE37C5BE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AED0-5FE1-456B-A184-59D6A449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2BC3-9D36-4315-85E0-DD90E34E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DA1-B2B8-470F-8A3C-7A7C6E3F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8C4C-E3C1-40BA-BE4B-2D51583A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76CE-56C2-4CBF-B53D-4AE4FC37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FC7-3490-4B9F-8FC7-DA3C3FBA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23D-792A-4DFF-9A29-8E1433BA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C8A-FA06-4E01-8CC9-C1B5EDAF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0A3-3194-4DD5-B001-DC65F712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9B6-30CD-40B6-970D-212F6D2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8CE-4D5A-41F8-BB8A-A7D2D305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07D-03A3-40FF-88A8-FB16CF1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B70E-A5CE-4156-8D8D-8F54EE40D1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71F-21A2-460B-885C-81023FD92B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arlene.tate.nichols@po.state.ct.u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lluminations.nctm.org/index_o.aspx?id=147" TargetMode="External"/><Relationship Id="rId2" Type="http://schemas.openxmlformats.org/officeDocument/2006/relationships/hyperlink" Target="http://illuminations.nctm.org/index_o.aspx?id=147" TargetMode="External"/><Relationship Id="rId3" Type="http://schemas.openxmlformats.org/officeDocument/2006/relationships/hyperlink" Target="http://illuminations.nctm.org/index_o.aspx?id=147" TargetMode="External"/><Relationship Id="rId4" Type="http://schemas.openxmlformats.org/officeDocument/2006/relationships/hyperlink" Target="http://illuminations.nctm.org/index_o.aspx?id=47" TargetMode="External"/><Relationship Id="rId5" Type="http://schemas.openxmlformats.org/officeDocument/2006/relationships/hyperlink" Target="http://illuminations.nctm.org/index_o.aspx?id=47" TargetMode="External"/><Relationship Id="rId6" Type="http://schemas.openxmlformats.org/officeDocument/2006/relationships/hyperlink" Target="http://illuminations.nctm.org/index_o.aspx?id=47" TargetMode="Externa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ate.ct.us/sde/dtl/curriculum/currmath.htm" TargetMode="External"/><Relationship Id="rId2" Type="http://schemas.openxmlformats.org/officeDocument/2006/relationships/hyperlink" Target="http://www.state.ct.us/sde/dtl/curriculum/currmath.htm" TargetMode="External"/><Relationship Id="rId3" Type="http://schemas.openxmlformats.org/officeDocument/2006/relationships/hyperlink" Target="http://www.state.ct.us/sde/dtl/curriculum/currmath.htm" TargetMode="External"/><Relationship Id="rId4" Type="http://schemas.openxmlformats.org/officeDocument/2006/relationships/hyperlink" Target="http://www.state.ct.us/sde/dtl/curriculum/currmath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9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Getting to Know the CMT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br>
              <a:rPr sz="4000"/>
            </a:b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CAS 2006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3429000"/>
            <a:ext cx="603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rlene Tate Nich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charlene.tate.nichols@po.state.ct.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ulers For Use During The Connecticut Mastery 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6400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T Handbook (p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6642000" cy="1041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6410520" cy="1609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08040" y="3398760"/>
            <a:ext cx="24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23040" y="35053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s 3 &amp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5486400"/>
            <a:ext cx="32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s 5, 6, 7 &amp;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24382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de 8 Formula She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MT Handbook (p. 3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5326200" cy="61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porting Forma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5 content strands organized by the four standar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erical and proportional reasoning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metry and measuremen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with data: probability and statistics;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ebraic reasoning: patterns and fun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MT scores will continue to be reported by str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ZATION OF CMT STRANDS BY STAND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MERICAL and PROPORTIONAL REASO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Place Valu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ictorial Representations of Number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Equivalent Fractions, Decimals and Percent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Order, Magnitude and Rounding of Number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Models for Operation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Basic Fact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Computation with Whole Numbers and Decimal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Computation with Fraction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Solve Word Probl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Numerical Estimation Strateg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. Estimating Solutions to Probl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. Ratios and Propor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. Computation with Perc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ZATION OF CMT STRANDS BY STAND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OMETRY and MEASU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.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5. Approximating Meas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. Customary and Metric Meas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7. Geometric Shapes and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. Spatial Relationshi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ORKING with DATA: PROBABILITY and STAT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. Tables, Graphs and Ch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. Statistics and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. Prob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. Classification and Logical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ZATION OF CMT STRANDS BY STAND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GEBRAIC REASONING: PATTERNS and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2. Patter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3. Algebraic Concep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GRATED UNDERSTANDING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include content from 1 or more of the 4 standard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. Mathematical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paring students for the Connecticut Mastery Test (CM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ound K-8 mathematics program embeds these strategies into all instructional plan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ategy 1: Asking “Why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ategy 2: Embed In Context, Present As A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T Handbook (p. 1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mple Lessons and Activities b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ndard and Grade Le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p. 1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MERICAL and PROPORTIONAL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K-2 P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's Count to 10 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It with Dominoes 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Many More Fish? 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des 3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imation 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n With Estimation 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king at the Mall 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des 6-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nceptual Model for Solving Percent Problems (5-8) 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ps at the Mall 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ing Number Sense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mple Lesson and Activity Descrip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MERICAL AND PROPORTIONAL REASO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's Count to 10 – Grades PreK-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illuminations.nctm.org/index_o.aspx?id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=14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It with Dominoes – Grades PreK-2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illuminations.nctm.org/index_o.aspx?id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=4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298600" y="5791320"/>
            <a:ext cx="332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MT Handbook p.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T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DE Mathematics Page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state.ct.us/sde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dtl/curriculum/currmath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 we wil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available CSDE CMT mater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ine scored student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 instructional implications and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 of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fou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nt Standar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guiding question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. 5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lgebraic Reasoning: Patterns and Functions –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tterns and functional relationships can be represented and analyzed using a variety of strategies, tools and technologi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do patterns and functions help us describe data and physical phenomena and solve a variety of problem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Numerical and Proportional Reasoning –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ntitative relationships can be expressed numerically in multiple ways in order to make connections and simplify calculations using a variety of strategies, tools and technologi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are quantitative relationships represented by number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 of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fou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nt Standar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guiding question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3.  Geometry and Measurement –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pes and structures can be analyzed, visualized, measured and transformed using a variety of strategies, tools and technologi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do geometric relationships and measurements help us to solve problems and make sense of our worl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4.   Working with Data: Probability and Statistics –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can be analyzed to make informed decisions using a variety of strategies, tools and technologi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can collecting, organizing and displaying data help    us analyze information and make reasonable and informed decision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1855800" cy="1905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228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thematics Framework/CM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914400"/>
            <a:ext cx="2895840" cy="2057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SDE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CMT/CA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ssment of selected concepts and skills in Grades 3-8 and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" y="906480"/>
            <a:ext cx="6568920" cy="5526000"/>
            <a:chOff x="228600" y="906480"/>
            <a:chExt cx="6568920" cy="5526000"/>
          </a:xfrm>
        </p:grpSpPr>
        <p:sp>
          <p:nvSpPr>
            <p:cNvPr id="163" name=""/>
            <p:cNvSpPr/>
            <p:nvPr/>
          </p:nvSpPr>
          <p:spPr>
            <a:xfrm>
              <a:off x="2692440" y="4874400"/>
              <a:ext cx="3490200" cy="1558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urriculum, Instruction and Assessment Guide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7280" y="2890440"/>
              <a:ext cx="3072600" cy="99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UDENT 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41400" y="4732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600" y="906480"/>
              <a:ext cx="3162960" cy="178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SD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uide for mathematics content and instruction in grades PreK-12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25000" y="3031560"/>
              <a:ext cx="718200" cy="170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976720" y="2890440"/>
              <a:ext cx="820800" cy="184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5880" y="4024080"/>
              <a:ext cx="0" cy="70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7680" y="1614960"/>
              <a:ext cx="143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59880" y="2323080"/>
              <a:ext cx="307800" cy="4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55200" y="2323080"/>
              <a:ext cx="257040" cy="4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necting the Framework to the CMT AND CAP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amework outlin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oncepts and skills should be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nd to what extent the concepts and skills should be taught at the grade level indica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necting the Framework to the CMT and CAP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MT and CAPT assess selected skills and concepts at the grade levels indica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thematics concepts and skills assessed on the CMT and CAPT reflect what students have learned-not just at the grade levels when the tests are administ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porting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 content strands organized by the four standar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erical and proportional reasoning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metry and measuremen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with data: probability and statistics;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ebraic reasoning: patterns and fun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MT scores will continue to be reported by str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MT Changes Generation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grade, 3-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ing testing beginning 200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no separate answer bookle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s can underline and highlight in booklet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no grid-in items for Grades 3 and 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-appropriate rulers are provid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ormula sheet is provided for Grade 8, other grades should know formulae and convers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multiple-choice items decreases while constructed-response items increases as the grade level increa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45:09Z</dcterms:created>
  <dc:creator>csde</dc:creator>
  <dc:description/>
  <dc:language>en-US</dc:language>
  <cp:lastModifiedBy>Matthew Fischer</cp:lastModifiedBy>
  <cp:lastPrinted>2006-02-08T21:10:49Z</cp:lastPrinted>
  <dcterms:modified xsi:type="dcterms:W3CDTF">2006-02-08T21:11:19Z</dcterms:modified>
  <cp:revision>9</cp:revision>
  <dc:subject/>
  <dc:title>Getting to Know the CMT4 19 November 2005 SCSU Sponsored by ATOM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6319172</vt:r8>
  </property>
  <property fmtid="{D5CDD505-2E9C-101B-9397-08002B2CF9AE}" pid="3" name="_AuthorEmail">
    <vt:lpwstr>rbirdsell@casciac.org</vt:lpwstr>
  </property>
  <property fmtid="{D5CDD505-2E9C-101B-9397-08002B2CF9AE}" pid="4" name="_AuthorEmailDisplayName">
    <vt:lpwstr>Regina Birdsell</vt:lpwstr>
  </property>
  <property fmtid="{D5CDD505-2E9C-101B-9397-08002B2CF9AE}" pid="5" name="_EmailSubject">
    <vt:lpwstr/>
  </property>
</Properties>
</file>