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  <p:sldId id="270" r:id="rId55"/>
    <p:sldId id="271" r:id="rId56"/>
    <p:sldId id="272" r:id="rId57"/>
    <p:sldId id="273" r:id="rId58"/>
    <p:sldId id="274" r:id="rId59"/>
    <p:sldId id="275" r:id="rId60"/>
    <p:sldId id="276" r:id="rId6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slide" Target="slides/slide15.xml"/><Relationship Id="rId56" Type="http://schemas.openxmlformats.org/officeDocument/2006/relationships/slide" Target="slides/slide16.xml"/><Relationship Id="rId57" Type="http://schemas.openxmlformats.org/officeDocument/2006/relationships/slide" Target="slides/slide17.xml"/><Relationship Id="rId58" Type="http://schemas.openxmlformats.org/officeDocument/2006/relationships/slide" Target="slides/slide18.xml"/><Relationship Id="rId59" Type="http://schemas.openxmlformats.org/officeDocument/2006/relationships/slide" Target="slides/slide19.xml"/><Relationship Id="rId60" Type="http://schemas.openxmlformats.org/officeDocument/2006/relationships/slide" Target="slides/slide20.xml"/><Relationship Id="rId61" Type="http://schemas.openxmlformats.org/officeDocument/2006/relationships/slide" Target="slides/slide21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dt" idx="9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 type="ftr" idx="9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 type="sldNum" idx="9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7771-4BE4-40A5-AC16-6887033FB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D0D1-155D-41B1-B184-13575BED9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6C73-CA17-49B5-BDA7-86801BD68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DA4E-7F15-496F-9216-991AC23B9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36EB9C-B1B0-48DE-9E2F-B4722E84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D7FDAD-7ED9-42F8-9C8D-F8A9E756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B263C5-91D1-4A85-95C3-6286561F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D00115-EC21-4B67-8A02-0111A11C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3B860B-578E-4ACE-9E3A-42AD9876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E88397-6578-4B7D-BA0A-F16ED8C7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20E72B-02FE-45E8-B931-AF504CCC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650C47-AC3A-449A-A6B6-B81FA65A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6BAE31-5196-46F2-83DA-7AA458FC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1E020C-B3E6-4819-B27A-A4457ED3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761F43-AA01-4E8C-9A7C-DB714A63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7AC5D5-92E6-48EB-9D30-EE74F082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C07CFA-733A-4C87-9021-09A09237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6B4563-2C9B-4574-B4FF-FF7C4957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A43DD0-E9BE-44D4-AF82-ACB63BB7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739A35-5151-4291-A25B-24ED0E47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08A156-B8F5-4A88-81E8-1CD60E63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85BF29-8885-4731-9404-B8580E3D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225A6E-426A-4F70-BCC3-7DFEC8A8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BB969B-4A96-4289-AC72-3A8DBC03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9496DA-B15A-4A1E-AF9D-C0F4D9F5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08A44F-5537-455C-AD1C-9452BD0A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BBC63C-B1C2-4A70-8379-9CF1111E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9FC0CF-FB38-44D1-A1C5-5519BEAD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2DDD6C-3A1C-4D25-8C85-3EF75748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B6970C-03A3-4552-A379-DB15290F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75AB6A-3684-4F9D-91E0-5DCB6590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715869-CE9E-4930-9259-27C67930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24F036-2770-413C-903E-0E5D72F8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A25E57-9A05-46E1-B5FE-7E39F272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396B67-AEC9-4FD7-B9EF-B06555E1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D3B911-694E-4246-823B-BF96791E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38E95D-F87A-4ACC-ADCA-0C4FFED8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607BB9-D805-4436-B3FE-3E819B4E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B7760E-A4D9-4311-8E2B-38736793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435684-BFA4-41D0-B26C-F9783290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D20542-4044-453C-8BF2-B476F5AF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8C5F96-16CF-4730-A639-DB2F4010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541F00-477E-444A-94DE-FE10E294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66057D-BA07-4CC4-8EC6-A09D16CF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04358F-23D8-4036-9B06-A496B307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BA9B79-C213-4AF7-964E-8A611923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60D5D3-4848-48C7-BDB8-083997EA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EFEA6D-D4B8-4A5B-9238-409C83E3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492EB6-ADCF-4635-80FF-3AA9B288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F40399-1B4E-4372-AB4E-6E6C2CEB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38FBA1-681E-4C7A-A316-F7A329F6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561D09-402D-494C-BD7F-E931F34C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3259EF-63B7-47A1-9696-B18D17B4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6AE51E4-DCE3-4D8F-8F63-58180CFE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2DFFC52-B3E3-4452-A235-B95B45D4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4DB479-E792-41E5-ABB7-15610FAA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50C029-3C14-4AED-A177-616DF64C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D39760-7E2F-4C0B-B91A-3DA47592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46266E3-A906-404F-9BB8-76BACA55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B1D89D-2C8B-435B-A3E0-24799098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1BDC3DA-4CD1-4B29-B256-0B127B62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87B18E0-58D3-4EAA-B196-72409D4C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D953A8-BD13-41C0-9670-0E029674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D9F3D8F-7864-498C-855D-CD8C9945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7175B4-9D02-476F-BEDF-01477B17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B3D825-72CB-42A7-BAE1-F3DDC9EC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285860-02F5-4B00-837D-05AEE10B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DC1D42-A96B-4A51-98EC-D1EE4DB2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F248D7-135E-4EEB-B6A3-1FE06833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ED1DC14-5BB4-4DE6-B35C-A75998E2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28B23E-FAC5-4EE1-B2DB-8E68AF49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C4A4A9-33A4-446D-A5B7-EFAC5E1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C2E78F-717E-4CE2-AF3F-D07D9209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78C889-B666-4AF2-8111-DE05D04A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956981-D250-4DE9-947F-87E0C671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3362AE-31BF-4651-9BD4-24BB79E8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9AB58E9-C6D3-485B-91F2-01E6F97B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D21E9F1-CC7D-4286-B417-B001BB9A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E4C1481-9D32-494F-A978-D8B3683F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727C95B-002E-4A79-BC10-08F34C59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9A83052-1223-45D9-99DC-AEA05C76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DF0411-8E6B-4273-BCE6-696A97F8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FAE7B64-4DA0-425B-B17A-F51CC79F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2F7F50-CC4A-45DE-BD43-71E7F281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97326CA-B394-442B-8302-77461C7B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80733B-8345-40C2-9DAF-AF0D0177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B1B343-F6EB-47E9-A77D-B2C261D6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234F32F-CAF5-46D4-83BA-DCB64047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C18E834-8E3F-492E-943D-1335D7F6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9352AF-9E90-438B-BC73-5926AC2A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C2ADB8-7549-44BF-A47D-C3B40B91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7AE9AF8-A5D8-41C0-8133-7600945F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B690F62-00F1-4B60-9E44-19F2DA8A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DC36C3-7D74-4DA9-B860-3FB101B9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A602464-AF60-4146-8229-DD45AF9E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CFB64A7-B586-4E34-B22A-FD2634BD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40F5A4-7954-418D-87CC-B61AD16B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C4AD0F-371B-4912-971C-4FBEEEF0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84EF6AD-282C-466D-99A3-16C823CC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115520-104C-49BA-A8E8-6093EF9E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A3020AB-4940-4965-9C42-E6317EFF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70B1233-1811-4222-B067-647C5B98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48016C5-60A4-4995-9B92-487CE9E2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5889C72-C47D-47AF-A751-7115DCF5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DF5EF72-A88A-4A2D-B750-55AD3968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54BECE-AEC6-46E1-84CC-7D5DCF31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0847228-79DA-456E-BB90-9D5BB7C5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C8AF49F-0798-42FF-B7F4-991F31FB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A7D19CE-AD96-4763-9486-2C79528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2B7746A-7DF2-4EC6-8B71-5C7DB4F3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0A37A3E-4635-4165-891B-3DB86CD5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4F5318B-A920-4DCC-8910-AD51B8E6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748E949-C722-4B07-A29C-775E7A59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EAA70C1-85B2-4C0E-AF90-D9D958C8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779D92B-6C28-43AF-B264-1EA3983D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22A3CE3-D099-4FF3-A110-B51881B7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A891F9-97E1-43E5-9374-789F087E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C4CDCF2-FB0D-445A-BF96-805E6D56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0FF7174-DC3F-4CCD-86A6-A43E4A31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DB0E333-985E-40CA-9C2D-0129727A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8CBD998-7907-49F9-92B2-1CC5453E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1C5BCD5-F866-47BD-AF15-7185EC43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2B551D8-42BA-4888-BBFC-91C68C10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A635E0E-5F56-4397-8E9E-C718A214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6F31B17-35ED-4A66-9642-A0E0EE3D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A2EA53B-2EC6-44F1-95F9-CE981CA2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A4F7AE7-0D5E-455C-BD70-C9BF6F04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2036697-836B-4BCC-84D7-EA9EA3B7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90ACA1B-B959-43EB-8FAE-85326B74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393D904-C920-45C6-B914-828789EB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33A2A39-C575-411E-B874-3C0D045C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F3325A-F4E4-45FD-AFFD-0BCD3A7A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B347CA-BCE0-4586-A957-9AFEED5B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81E82C3-D175-4E8C-998D-DB5E8A88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F597A7A-F448-4DD4-B60B-35DC7038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2C5E84-5A9F-4C62-B48D-7BF961CB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3569FDB-F9AA-4379-A19E-F75A2F69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D150F32-FBA2-47C8-9A8A-4EF8BD12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5E603B8-984A-45B7-9B9B-BFDBED02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E241940-DDED-4B61-A525-17E0CFD0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168DEC1-8FE6-4020-AE69-C1BD4AD9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2E5C4EC-17D3-41FA-BBC2-D9D760F6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961B36-F89D-4EBF-9196-5BD567FB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BEE4DB5-3796-43B6-ADBD-78A4FD64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C71F3B-499A-42B9-8EAB-CE4EBB72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EA21090-CC35-4339-853F-835282D4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F3E60DC-A133-49D2-8E8E-303C1069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551C27B-95C0-4727-BA54-1397FE35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45B4647-C1FF-4424-9A85-562A7AAD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D290E3A-05F1-43D8-89A0-920C157D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58783DE-BF6F-44B8-AC69-F4D461D9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47A0DDB-93CB-421B-A2BD-1CB816F5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A92A1AE-623F-455A-A050-86A134FD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82E459A-B5B0-479D-9D97-8B60C36A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8CCCCA6-5863-4C75-8B76-11E92488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0B82ADE-43F1-43FE-8C41-523201B0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D6520D7-C4F1-453A-BF80-216917D5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529EFC8-6857-4FC4-A490-2FAC5976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8C5AA2B-8EFC-43EC-BC98-59916195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1BF592C-2A0A-4A38-AB1E-9F850A7E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E22F99D-4A75-497D-B7EA-61478969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D44624E-608A-4483-A209-655E1BAD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B060B67-402F-401B-BF33-0596DBE7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FE31665-D41B-4646-89D8-A6F61015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EEE09D8-2973-415B-8B79-385D3BE2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BE1B21D-EF3F-4316-87DD-843D1840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28AAC04-1A41-436B-9FDB-CB8E0916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6BC918D-0E31-4DB0-9EE6-16D306D7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CCB15E5-4124-4F37-8C13-CB392CA6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C64DEFE-8515-42EC-BEFC-34BC9B6E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E665D48-FB61-4490-86C2-79CEFD1D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73E13A2-4A2B-4CE9-A99B-0A6B4F91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E70D0A5-4828-48C9-8BA4-30AC3460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8A7DE3C-EC99-4687-B0EF-F2695923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39F99CA-2A64-477F-8491-8EAAC953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06D256E-AEC6-4ADF-B28E-CAF99F2E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CFE11E2-293F-4C39-868A-DDFB13FC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C642350-8D97-4BE9-B9E6-86BEAEC1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03F9A3D-34BC-42AE-8BAD-CDD58CE6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EB19CBB-8401-4848-98C2-E2DCA461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83CF52F-93D9-427F-B1F9-B868AFC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801DCDA-90FC-40F7-A327-F813CBF4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100FCB6-67D8-4F8A-BEB7-55E29B74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BDE9C89-76EE-40C9-9967-4148776A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B827CB4-BAF3-4F8B-9393-4CE4D844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EA7CB8D-6D74-423A-ADFF-4832C34D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1EA6E1-C53C-4587-A326-89D2A73B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B5117FD-E0FD-4F4D-86B9-C37CEA6D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3865E4A-1DBA-4B7D-9288-0CB7463B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D9E0671-B2E7-4102-A4D6-C555BD21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616286F-A314-404E-BD65-CA2A235D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23BDA21-95D4-4AAA-BFF4-0449AC57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425FC97-58A3-4FE2-B968-FAB9796D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F4BEE5A-99FA-4E99-8B83-B53664A5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76AFB11-8702-4C6A-AE48-FC1F5C6F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1DE08CA-B0D3-4FB1-9BA0-5EE5EBA5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40D5A2C-867A-45CD-ABE9-5ECD380E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21A0332-724D-4C49-9869-ECF045B8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336D939-C638-441E-A3A0-6D24D011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D3FB314-7890-47C6-BB09-7274E612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58EDD3E-43C8-4834-A743-88C86F65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39AD725-8E99-4094-9E0A-B1A07254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2CF3CD8-BFA2-4562-8767-C9EB49B3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C0A3B11-5627-4ECF-9B31-DEB92624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6A8A657-A073-4D42-BA81-DE90E839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4BB2B53-4268-41B9-8203-7F937AD6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801BCB9-117F-4D89-8234-F38B9B57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4DC3B1D-9458-4D96-B98A-EDF57791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E83CE96-188E-447B-81B8-8E1846E2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E4B2A83-E0D8-464B-B0A6-B241BF32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F9F23E0-5941-4345-8CF8-8ADC4571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B725865-1265-4537-91E6-AF2D3C84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87E8A65-FF05-4DCA-82BB-19286A09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5AE9FE1-A75E-49A0-96FD-26AB6DF4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E871529-E3A6-4C96-A4C0-1DDFF3B9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92430D2-ACD0-426D-9968-87E4702A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F45BECC-D0C1-4FCE-AC49-A3625F1D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57E2FA1-A778-4B83-8ECE-ECB45396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9802F37-72A0-4900-90A2-84198508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7B13F8A-1FB1-404D-B1A5-DFC8DA17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D0B04C7-B159-4A4D-A6AB-C90174C0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7F82741-D200-4E3B-99A3-370F4A5A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E71011D-4C62-4946-9C5A-3D6C387E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BD77BC9-6669-4598-B1D3-CEA7F000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4432925-5C39-4B5F-A7B5-9977FA17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1A17DC9-DD0C-4B79-94D3-583E92A1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2A98F91-C47E-4DDA-9991-ED816EE9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52D34DE-4980-43C8-B489-CC524920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1045620-6441-4D42-AD1C-03D913C0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48F3E23-4F17-4E13-A11A-4F9DC47C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5A112A4-DCA3-49BC-BAE9-8CEF3D2D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19B6960-BAB8-4CF7-969E-C80C8E56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9B8F-F20C-430D-8AA1-7D1CBF285022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1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BBFA-972F-4D8C-BE63-818106F8E991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01CD-A125-4EFF-BD48-FCBA3D5EBC44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BBA1-DE8A-43C4-A7C2-ED0F028CEDD9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D9CB-7760-47F1-A72E-52855B7DEA19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09BC-6C5F-41B9-9CE7-D574FFF47632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2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DA65-C62E-444E-A363-4002D592ADCF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3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CD45-EDCB-4548-821B-4C76E17F58D2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3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7D0A-7AF1-445E-B322-548808D00D4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3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3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8678-5292-42B2-9D1A-12C6B2CD07CA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3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3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A25D-FB23-46F2-BB06-C6B99152E9C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3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840C-5B3B-44BF-8DE3-745865731043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FCFA-9ABF-49A3-A298-E9B6E7B704AE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4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4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D40C-9597-42D8-B482-A01ACF14456E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18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9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2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2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ounded Rectangle 2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ounded Rectangle 2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41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2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D48A-3F1B-4A73-9DDC-6B6F8133E013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3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4"/>
          </p:nvPr>
        </p:nvSpPr>
        <p:spPr>
          <a:xfrm>
            <a:off x="839592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5488-7823-4325-9E80-CABF28ADC3A7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4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7C4B-A311-4B2A-96AA-65746A4EA5DC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4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4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E028-D76C-4588-9B92-D0849E3C5B06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4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D634-6D47-4DBC-8144-9D8677697EF3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4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5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E81E-EE38-4673-82C5-0596D960179D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5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F8FD-02AF-48A8-8C02-8C1DCCFA2210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5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5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B675-BAAA-4FE9-953E-F96B4F16A0C7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dt" idx="5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359C-A5CB-46A9-83E9-C23A359233F5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5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sldNum" idx="5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D026-10E5-4A49-A22E-B2D437797BD4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dt" idx="5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533F-E62D-4337-92F2-A15178E5C368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ftr" idx="5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 type="sldNum" idx="5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86E-0E8C-4415-8E9C-5336471ABA8A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6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7D94-03EE-42AA-B953-BDD172C93888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6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6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156C-5467-46FA-BAEF-278FE5823CDD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18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19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2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2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2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ounded Rectangle 2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ounded Rectangle 2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2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2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4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41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 type="dt" idx="63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66F6-1774-4B01-8555-5DCF73BE6109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 type="ftr" idx="64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 type="sldNum" idx="65"/>
          </p:nvPr>
        </p:nvSpPr>
        <p:spPr>
          <a:xfrm>
            <a:off x="839592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8546-9727-4929-A6CB-12C9B2809BAF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6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5038-D097-4BCF-A60F-3477DBD9F88C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6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6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2329-E8C3-4405-A448-0F5FA18A24C6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28CD-BF72-445A-B811-6F5CF383E761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6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884D-4248-4F2B-9D71-377133653777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7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7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B1E3-EB38-4CF5-AE8C-B99A86B5A71D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dt" idx="7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0FAC-19E2-4196-AE88-7193B321C2BC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ftr" idx="7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sldNum" idx="7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317B-B59D-4DFD-A97B-84EB4B555B50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dt" idx="7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B3CC-D0B7-490B-AA32-93BCA0096057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 type="ftr" idx="7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 type="sldNum" idx="7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3D32-A22D-46CA-9C57-B19487501873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 type="dt" idx="7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68D0-A32F-4651-B7F7-BCC3987D35BB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 type="ftr" idx="7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 type="sldNum" idx="8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1841-C8C1-46AA-AC57-3C42F1B0C2B6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 type="dt" idx="8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00DD-41AF-4E61-ACFA-7F2F9F352E2D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 type="ftr" idx="8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 type="sldNum" idx="8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7DCF-5D9B-4A23-9F41-3C5A89542DA5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Rectangle 18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Rectangle 19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Rectangle 2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ectangle 2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ounded Rectangle 2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ounded Rectangle 2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2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2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4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41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8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EEFF-E921-488F-B4BB-00EE2EC66B35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8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86"/>
          </p:nvPr>
        </p:nvSpPr>
        <p:spPr>
          <a:xfrm>
            <a:off x="839592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B3A4-4862-4C25-8BEE-98326D36A875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 type="dt" idx="8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D300-F756-4325-AF60-BA1A7CF09E67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 type="ftr" idx="8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 type="sldNum" idx="8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F920-7AE4-4C1F-B207-E4553A2301BF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 type="dt" idx="9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D2A5-8050-4A9E-A23E-667AA5C7AA77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 type="ftr" idx="9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 type="sldNum" idx="9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E311-047B-4783-9BA8-3ACBCAA0EB0A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 type="dt" idx="9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B827-5DFF-4BD2-B4A1-ACDA714B48AE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 type="ftr" idx="9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 type="sldNum" idx="9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A475-9699-4A3D-9ABB-F6D4F63D563B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AC31-8691-4C9A-8AF5-27437B0C878A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2ABD-2EF9-4F72-A67A-918F34EB57D1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858A-6C18-4E19-A213-8E2A3DD80763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1021-099D-4246-86E0-61E44931285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B796-B918-48F5-AFA3-39BEC916E4F0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202E-544F-4E00-998F-6C692A9DA17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Overview of Actions Taken by the NCAA Division I Board of Directors – October 2011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274680" y="1646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Adopted increased initial-eligibility standard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Adopted increased two-year college transfer standard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Adopted changes to the NCAA Division I Academic Performance Program (APP), including eligibility for postseason competi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9176-6C66-4DC8-870B-69D60ED9F912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  <a:ea typeface="Calibri"/>
              </a:rPr>
              <a:t>Nonqualifi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Students who do not meet the current qualifier standard, now the new academic redshirt standard, are not eligible for practice, competition or athletics aid in first year of full-time collegiate enrollment at NCAA member institu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8F9F-97AF-47FC-B3B4-F2D8AE11AB6D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  <a:ea typeface="Calibri"/>
              </a:rPr>
              <a:t>Two-Year College Transfer Standar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 type="subTitle"/>
          </p:nvPr>
        </p:nvSpPr>
        <p:spPr>
          <a:xfrm>
            <a:off x="0" y="4846320"/>
            <a:ext cx="91440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Trebuchet MS"/>
                <a:ea typeface="Calibri"/>
              </a:rPr>
              <a:t>Academic Success as a First Expect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6" name="Slide Number Placeholder 5"/>
          <p:cNvSpPr/>
          <p:nvPr/>
        </p:nvSpPr>
        <p:spPr>
          <a:xfrm>
            <a:off x="8396280" y="1440"/>
            <a:ext cx="747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C3A4-9961-418E-A060-1AC601477B1D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0" y="474480"/>
            <a:ext cx="9144000" cy="17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Trebuchet MS"/>
                <a:ea typeface="Calibri"/>
              </a:rPr>
              <a:t>Key Research Findings  -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  <a:ea typeface="Calibri"/>
              </a:rPr>
              <a:t>Academic Performance of 2-4 Transfer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380880" y="20379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Two-four transfer students enter NCAA Division I schools with lower high school grades and test scores than other groups of stud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5160" indent="-425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5160" indent="-425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Two-four transfers leave college ineligible at higher rates than any other group of student-athlet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5160" indent="-425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5160" indent="-425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Two-four transfer graduation rates lag behind those of student-athletes who enter a Division I school from high schoo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514440" y="6001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  <a:ea typeface="Calibri"/>
              </a:rPr>
              <a:t>Key Research Finding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476280" y="134316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Grade-point average at the two-year institution is the best predictor of all first-year outcomes examined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Ineligibility rates decrease significantly as a function of increased two-year institution grade-point averag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Student-athletes with more core academic credit perform better at four-year institutions.  Science is a strong predictor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514440" y="4381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rebuchet MS"/>
                <a:ea typeface="Calibri"/>
              </a:rPr>
              <a:t>Key Research Findings</a:t>
            </a:r>
            <a:br>
              <a:rPr sz="4000"/>
            </a:br>
            <a:r>
              <a:rPr b="0" lang="en-US" sz="1800" spc="-1" strike="noStrike">
                <a:solidFill>
                  <a:srgbClr val="424456"/>
                </a:solidFill>
                <a:latin typeface="Calibri"/>
                <a:ea typeface="Calibri"/>
              </a:rPr>
              <a:t>(continued)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2" name=""/>
          <p:cNvSpPr txBox="1"/>
          <p:nvPr/>
        </p:nvSpPr>
        <p:spPr>
          <a:xfrm>
            <a:off x="466560" y="149544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Students with high numbers of physical education activity credits tend to have less academic success at the four-year institution than their two-year institution grade-point average would predic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Generally, high school academic variables do not add appreciably to prediction once academic behavior at the two-year institution is know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  <a:ea typeface="Calibri"/>
              </a:rPr>
              <a:t>Timeline for Increased Standar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Students attending two-year colleges full time right now (fall 2011) are NOT impacted by these chang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Changes apply to students who are first time, full time after August 1, 2012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  <a:ea typeface="Calibri"/>
              </a:rPr>
              <a:t>Two-Year Transfers who are QUALIFIERS in order to compet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23360" y="1752120"/>
            <a:ext cx="824724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buClr>
                <a:srgbClr val="42445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  <a:ea typeface="Calibri"/>
              </a:rPr>
              <a:t>Increase transferable grade-point average from 2.000 to 2.500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buClr>
                <a:srgbClr val="42445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  <a:ea typeface="Calibri"/>
              </a:rPr>
              <a:t>Expand physical education activity course limit of two credits to ALL sports (currently applies only to men’s basketball)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buClr>
                <a:srgbClr val="42445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  <a:ea typeface="Calibri"/>
              </a:rPr>
              <a:t>All other current requirements would remain in effec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buClr>
                <a:srgbClr val="42445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  <a:ea typeface="Calibri"/>
              </a:rPr>
              <a:t>Athletics aid and practice permissible on transfer based on qualifier statu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  <a:ea typeface="Calibri"/>
              </a:rPr>
              <a:t>Two-Year Transfers who are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  <a:ea typeface="Calibri"/>
              </a:rPr>
              <a:t>Nonqualifiers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in order to compete upon transfer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365040" y="1981080"/>
            <a:ext cx="8321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74400" indent="-374400">
              <a:lnSpc>
                <a:spcPct val="100000"/>
              </a:lnSpc>
              <a:buClr>
                <a:srgbClr val="42445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Trebuchet MS"/>
                <a:ea typeface="Calibri"/>
              </a:rPr>
              <a:t>Increase transferable grade-point average from 2.000 to 2.500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74400" indent="-374400">
              <a:lnSpc>
                <a:spcPct val="100000"/>
              </a:lnSpc>
              <a:buClr>
                <a:srgbClr val="42445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74400" indent="-374400">
              <a:lnSpc>
                <a:spcPct val="100000"/>
              </a:lnSpc>
              <a:buClr>
                <a:srgbClr val="42445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Trebuchet MS"/>
                <a:ea typeface="Calibri"/>
              </a:rPr>
              <a:t>Require completion of transferable core credits as follows:  three math, three science, six English.  Science would be new requirement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74400" indent="-374400">
              <a:lnSpc>
                <a:spcPct val="100000"/>
              </a:lnSpc>
              <a:buClr>
                <a:srgbClr val="42445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74400" indent="-374400">
              <a:lnSpc>
                <a:spcPct val="100000"/>
              </a:lnSpc>
              <a:buClr>
                <a:srgbClr val="42445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Trebuchet MS"/>
                <a:ea typeface="Calibri"/>
              </a:rPr>
              <a:t>All other current requirements would remain in effect (e.g., earn Associate of Arts degree or equivalent academic two-year degree, 48-transferable credits, minimum of three semesters/four quarters at two-year institution, progress-toward-degree requirements, etc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74400" indent="-37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74400" indent="-374400">
              <a:lnSpc>
                <a:spcPct val="90000"/>
              </a:lnSpc>
              <a:spcBef>
                <a:spcPts val="300"/>
              </a:spcBef>
              <a:buClr>
                <a:srgbClr val="42445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74400" indent="-3744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74400" indent="-3744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74400" indent="-3744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Calibri"/>
              </a:rPr>
              <a:t>Academic Performance Program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subTitle"/>
          </p:nvPr>
        </p:nvSpPr>
        <p:spPr>
          <a:xfrm>
            <a:off x="0" y="44794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Trebuchet MS"/>
                <a:ea typeface="Calibri"/>
              </a:rPr>
              <a:t>Team Succes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Trebuchet MS"/>
                <a:ea typeface="Calibri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Trebuchet MS"/>
                <a:ea typeface="Calibri"/>
              </a:rPr>
              <a:t>Academic Accountabilit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1" name="Slide Number Placeholder 5"/>
          <p:cNvSpPr/>
          <p:nvPr/>
        </p:nvSpPr>
        <p:spPr>
          <a:xfrm>
            <a:off x="8396280" y="1440"/>
            <a:ext cx="747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F832-076A-43F0-A37A-BB026E45D7F6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  <a:ea typeface="Calibri"/>
              </a:rPr>
              <a:t>Access to Postseason Competi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182520" y="1645920"/>
            <a:ext cx="8732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17240">
              <a:lnSpc>
                <a:spcPct val="9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Established 930 NCAA Division I Academic Progress Rate (APR) as a minimum academic standard to participate in postseason competition.  Transition to this benchmark to occur over next three yea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4160" indent="-417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4160" indent="-417240">
              <a:lnSpc>
                <a:spcPct val="9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Postseason includes all postseason events conducted after last regular season contest or end of conference tournament (e.g., includes bowl games, NIT, WNIT, etc.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4160" indent="-417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4160" indent="-417240">
              <a:lnSpc>
                <a:spcPct val="9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Denied access to postseason includes individual competitors for teams not meeting academic standa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4160" indent="-417240">
              <a:lnSpc>
                <a:spcPct val="90000"/>
              </a:lnSpc>
              <a:buClr>
                <a:srgbClr val="32606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4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AD9A-B36A-4AC9-8464-664BBFC40068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Calibri"/>
              </a:rPr>
              <a:t>Initial-Eligibility Standards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Calibri"/>
              </a:rPr>
              <a:t>Academics as a First Expectation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8" name="Slide Number Placeholder 2"/>
          <p:cNvSpPr/>
          <p:nvPr/>
        </p:nvSpPr>
        <p:spPr>
          <a:xfrm>
            <a:off x="8396280" y="1440"/>
            <a:ext cx="747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5607-F12D-41A3-8264-2A40C383A1E8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Calibri"/>
              </a:rPr>
              <a:t>NEW PENALTY STRUCTURE: THREE LEVEL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447480" y="1463760"/>
            <a:ext cx="849132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97" name="Diagram 4" descr=""/>
          <p:cNvPicPr/>
          <p:nvPr/>
        </p:nvPicPr>
        <p:blipFill>
          <a:blip r:embed="rId1"/>
          <a:stretch/>
        </p:blipFill>
        <p:spPr>
          <a:xfrm>
            <a:off x="262080" y="2163600"/>
            <a:ext cx="8772480" cy="4071960"/>
          </a:xfrm>
          <a:prstGeom prst="rect">
            <a:avLst/>
          </a:prstGeom>
          <a:ln w="0">
            <a:noFill/>
          </a:ln>
        </p:spPr>
      </p:pic>
      <p:sp>
        <p:nvSpPr>
          <p:cNvPr id="2098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7683-CAD8-4213-AEED-295897AC2ED4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  <a:ea typeface="Calibri"/>
              </a:rPr>
              <a:t>Access to Championship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00" name=""/>
          <p:cNvSpPr txBox="1"/>
          <p:nvPr/>
        </p:nvSpPr>
        <p:spPr>
          <a:xfrm>
            <a:off x="1066320" y="1981080"/>
            <a:ext cx="728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Access to championships and new penalty structure - effective 2012-13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Transition to full 930 APR to occur over next three yea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1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0152-1529-4238-AF1A-FD74BAB0E66B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  <a:ea typeface="Calibri"/>
              </a:rPr>
              <a:t>Timeline for Implementi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rebuchet MS"/>
                <a:ea typeface="Calibri"/>
              </a:rPr>
              <a:t>New Standar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0" name=""/>
          <p:cNvSpPr txBox="1"/>
          <p:nvPr/>
        </p:nvSpPr>
        <p:spPr>
          <a:xfrm>
            <a:off x="228600" y="2286000"/>
            <a:ext cx="865656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New initial-eligibility standards are effective for students entering any collegiate institution full time on or after August 1, 2015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Current high school freshman and younger are impacted by these chang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Current high school sophomores, juniors and seniors are not impacted by these chang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1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BFFB-612B-4173-9485-FD958B9734F0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  <a:ea typeface="Calibri"/>
              </a:rPr>
              <a:t>New Initial-Eligibility Standards –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rebuchet MS"/>
                <a:ea typeface="Calibri"/>
              </a:rPr>
              <a:t>Three Possible Outcom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1.  Full qualifier  = competition, athletics aid, practice in first yea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Academic redshirt = athletics aid in first year, practice only in first regular academic ter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Calibri"/>
              </a:rPr>
              <a:t>Nonqualifier = no athletics aid, practice or competition in first yea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4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3FD7-DC38-4F3A-AAFB-249AC9FFD761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New Initial-Eligibility Standar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Competition – FULL QUALIFIER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6" name=""/>
          <p:cNvSpPr txBox="1"/>
          <p:nvPr/>
        </p:nvSpPr>
        <p:spPr>
          <a:xfrm>
            <a:off x="0" y="2010960"/>
            <a:ext cx="9144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PSAs must meet the following standard in order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rebuchet MS"/>
                <a:ea typeface="Calibri"/>
              </a:rPr>
              <a:t>compete, practice and receive athletics aid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 in the first year of collegiate enrollment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Obtain a core GPA/test score that is set at approximately one-half of a standard deviation below the national student-body mean.  This represents an increase from the current one standard deviation below the national student mean.  The new sliding scale requires a high school core GPA to be approximately 0.5 GPA units higher for a given test score compared to the current qualifier standard (e.g., SAT of 1000 requires 2.5 high school core GPA for competition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Obtain a minimum core GPA of 2.3 in the 16 core courses currently required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Meet core-course requir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7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82D2-9E2F-4029-98F6-D61375716238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379440" y="67284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Course work requirements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182520" y="1217520"/>
            <a:ext cx="872640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Division I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Division II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6 core course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4 core courses (16 after 8-1-13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4 years of English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 years of Englis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 years of math (Alg. 1 or higher)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 years of math (Alg. 1 or highe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 years of natural or physical science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 years of natural or physical science (1 year lab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 extra year English, math or scienc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 extra years English, math or science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3 after  8- 1-13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 years of social scienc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 years of social scienc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4 years additional core course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 years additional core courses after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4 after 8-1-13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inimum GPA and combined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inimum GPA of 2.0 and combined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AT or ACT sum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AT of 820 or sum ACT of 6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0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EA77-E786-4639-8A64-F8F7BE4E578B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Calibri"/>
              </a:rPr>
              <a:t>Core Course Progression fo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Calibri"/>
              </a:rPr>
              <a:t>Competition – FULL QUALIFER Requirement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2" name=""/>
          <p:cNvSpPr txBox="1"/>
          <p:nvPr/>
        </p:nvSpPr>
        <p:spPr>
          <a:xfrm>
            <a:off x="182520" y="2010960"/>
            <a:ext cx="8732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9560">
              <a:lnSpc>
                <a:spcPct val="9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Calibri"/>
              </a:rPr>
              <a:t>This requirement must be met in order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  <a:ea typeface="Calibri"/>
              </a:rPr>
              <a:t>compe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Calibri"/>
              </a:rPr>
              <a:t> in the first year of collegiate enrollment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57200" indent="-439560">
              <a:lnSpc>
                <a:spcPct val="9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457200" indent="-439560">
              <a:lnSpc>
                <a:spcPct val="9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Calibri"/>
              </a:rPr>
              <a:t>Students must successfully complete 10 core courses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  <a:ea typeface="Calibri"/>
              </a:rPr>
              <a:t>prior to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Calibri"/>
              </a:rPr>
              <a:t>seventh semester (or equivalent) of high school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57200" indent="-439560">
              <a:lnSpc>
                <a:spcPct val="9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457200" indent="-439560">
              <a:lnSpc>
                <a:spcPct val="9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Calibri"/>
              </a:rPr>
              <a:t>Seven of the 10 core courses must be successfully completed in English, math and natural/physical scienc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57200" indent="-439560">
              <a:lnSpc>
                <a:spcPct val="9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457200" indent="-439560">
              <a:lnSpc>
                <a:spcPct val="9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Calibri"/>
              </a:rPr>
              <a:t>These core courses (and grades) must be used in calculating the core GPA for purposes of meeting the sliding scale and GPA minimum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3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4ED1-4BF8-4F4D-BD3F-28702C78435B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4" name="Picture 2" descr=""/>
          <p:cNvPicPr/>
          <p:nvPr/>
        </p:nvPicPr>
        <p:blipFill>
          <a:blip r:embed="rId1"/>
          <a:stretch/>
        </p:blipFill>
        <p:spPr>
          <a:xfrm>
            <a:off x="304920" y="1246320"/>
            <a:ext cx="6589440" cy="5279760"/>
          </a:xfrm>
          <a:prstGeom prst="rect">
            <a:avLst/>
          </a:prstGeom>
          <a:ln w="0">
            <a:noFill/>
          </a:ln>
        </p:spPr>
      </p:pic>
      <p:sp>
        <p:nvSpPr>
          <p:cNvPr id="2055" name="Title 3"/>
          <p:cNvSpPr/>
          <p:nvPr/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ew Initial-Eligibility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liding Scale Elevated to ~0.5 SD Below National Mean; 2.30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ight Triangle 21"/>
          <p:cNvSpPr/>
          <p:nvPr/>
        </p:nvSpPr>
        <p:spPr>
          <a:xfrm rot="10800000">
            <a:off x="5715000" y="4370040"/>
            <a:ext cx="404640" cy="304920"/>
          </a:xfrm>
          <a:prstGeom prst="rtTriangle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7" name="Group 2"/>
          <p:cNvGrpSpPr/>
          <p:nvPr/>
        </p:nvGrpSpPr>
        <p:grpSpPr>
          <a:xfrm>
            <a:off x="898560" y="2422080"/>
            <a:ext cx="3427560" cy="2505600"/>
            <a:chOff x="898560" y="2422080"/>
            <a:chExt cx="3427560" cy="2505600"/>
          </a:xfrm>
        </p:grpSpPr>
        <p:sp>
          <p:nvSpPr>
            <p:cNvPr id="2058" name="Rectangle 3"/>
            <p:cNvSpPr/>
            <p:nvPr/>
          </p:nvSpPr>
          <p:spPr>
            <a:xfrm rot="2062800">
              <a:off x="931680" y="3416760"/>
              <a:ext cx="3136320" cy="365400"/>
            </a:xfrm>
            <a:prstGeom prst="rect">
              <a:avLst/>
            </a:prstGeom>
            <a:solidFill>
              <a:srgbClr val="ffff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AutoShape 4"/>
            <p:cNvSpPr/>
            <p:nvPr/>
          </p:nvSpPr>
          <p:spPr>
            <a:xfrm rot="7500000">
              <a:off x="3825000" y="4368240"/>
              <a:ext cx="365400" cy="520920"/>
            </a:xfrm>
            <a:prstGeom prst="rtTriangle">
              <a:avLst/>
            </a:prstGeom>
            <a:solidFill>
              <a:srgbClr val="ffff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AutoShape 5"/>
            <p:cNvSpPr/>
            <p:nvPr/>
          </p:nvSpPr>
          <p:spPr>
            <a:xfrm flipH="1" rot="18360000">
              <a:off x="930240" y="2509560"/>
              <a:ext cx="346680" cy="255240"/>
            </a:xfrm>
            <a:prstGeom prst="rtTriangle">
              <a:avLst/>
            </a:prstGeom>
            <a:solidFill>
              <a:srgbClr val="ffff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Group 15"/>
          <p:cNvGrpSpPr/>
          <p:nvPr/>
        </p:nvGrpSpPr>
        <p:grpSpPr>
          <a:xfrm>
            <a:off x="1371600" y="1855800"/>
            <a:ext cx="914400" cy="1221120"/>
            <a:chOff x="1371600" y="1855800"/>
            <a:chExt cx="914400" cy="1221120"/>
          </a:xfrm>
        </p:grpSpPr>
        <p:sp>
          <p:nvSpPr>
            <p:cNvPr id="2062" name="TextBox 27"/>
            <p:cNvSpPr/>
            <p:nvPr/>
          </p:nvSpPr>
          <p:spPr>
            <a:xfrm>
              <a:off x="1371600" y="1855800"/>
              <a:ext cx="914400" cy="4590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ademic Redshi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3" name="Straight Arrow Connector 28"/>
            <p:cNvCxnSpPr>
              <a:stCxn id="2062" idx="2"/>
            </p:cNvCxnSpPr>
            <p:nvPr/>
          </p:nvCxnSpPr>
          <p:spPr>
            <a:xfrm flipH="1">
              <a:off x="1828080" y="2317680"/>
              <a:ext cx="1080" cy="759600"/>
            </a:xfrm>
            <a:prstGeom prst="straightConnector1">
              <a:avLst/>
            </a:prstGeom>
            <a:ln w="9360">
              <a:solidFill>
                <a:srgbClr val="53548a"/>
              </a:solidFill>
              <a:miter/>
              <a:tailEnd len="med" type="arrow" w="med"/>
            </a:ln>
          </p:spPr>
        </p:cxnSp>
      </p:grpSp>
      <p:sp>
        <p:nvSpPr>
          <p:cNvPr id="2064" name="Freeform 29"/>
          <p:cNvSpPr/>
          <p:nvPr/>
        </p:nvSpPr>
        <p:spPr>
          <a:xfrm flipV="1">
            <a:off x="3962520" y="4294080"/>
            <a:ext cx="2133360" cy="338400"/>
          </a:xfrm>
          <a:custGeom>
            <a:avLst/>
            <a:gdLst/>
            <a:ahLst/>
            <a:rect l="l" t="t" r="r" b="b"/>
            <a:pathLst>
              <a:path w="2133600" h="304800">
                <a:moveTo>
                  <a:pt x="0" y="228600"/>
                </a:moveTo>
                <a:lnTo>
                  <a:pt x="381000" y="0"/>
                </a:lnTo>
                <a:lnTo>
                  <a:pt x="2133600" y="0"/>
                </a:lnTo>
                <a:lnTo>
                  <a:pt x="1774529" y="228600"/>
                </a:lnTo>
                <a:lnTo>
                  <a:pt x="76200" y="228600"/>
                </a:lnTo>
                <a:lnTo>
                  <a:pt x="1981200" y="3048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5" name=""/>
          <p:cNvGraphicFramePr/>
          <p:nvPr/>
        </p:nvGraphicFramePr>
        <p:xfrm>
          <a:off x="6858000" y="1322280"/>
          <a:ext cx="1981080" cy="1355760"/>
        </p:xfrm>
        <a:graphic>
          <a:graphicData uri="http://schemas.openxmlformats.org/drawingml/2006/table">
            <a:tbl>
              <a:tblPr/>
              <a:tblGrid>
                <a:gridCol w="1320840"/>
                <a:gridCol w="660240"/>
              </a:tblGrid>
              <a:tr h="594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e3f68"/>
                          </a:solidFill>
                          <a:latin typeface="Georgia"/>
                        </a:rPr>
                        <a:t>% Current </a:t>
                      </a:r>
                      <a:r>
                        <a:rPr b="1" lang="en-US" sz="1100" spc="-1" strike="noStrike" u="sng">
                          <a:solidFill>
                            <a:srgbClr val="3e3f68"/>
                          </a:solidFill>
                          <a:uFillTx/>
                          <a:latin typeface="Georgia"/>
                        </a:rPr>
                        <a:t>SAs</a:t>
                      </a:r>
                      <a:r>
                        <a:rPr b="1" lang="en-US" sz="1100" spc="-1" strike="noStrike">
                          <a:solidFill>
                            <a:srgbClr val="3e3f68"/>
                          </a:solidFill>
                          <a:latin typeface="Georgia"/>
                        </a:rPr>
                        <a:t> Ineligible for Practice/ A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e3f68"/>
                          </a:solidFill>
                          <a:latin typeface="Georgia"/>
                        </a:rPr>
                        <a:t>% Current </a:t>
                      </a:r>
                      <a:r>
                        <a:rPr b="1" lang="en-US" sz="1100" spc="-1" strike="noStrike" u="sng">
                          <a:solidFill>
                            <a:srgbClr val="3e3f68"/>
                          </a:solidFill>
                          <a:uFillTx/>
                          <a:latin typeface="Georgia"/>
                        </a:rPr>
                        <a:t>SAs</a:t>
                      </a:r>
                      <a:r>
                        <a:rPr b="1" lang="en-US" sz="1100" spc="-1" strike="noStrike">
                          <a:solidFill>
                            <a:srgbClr val="3e3f68"/>
                          </a:solidFill>
                          <a:latin typeface="Georgia"/>
                        </a:rPr>
                        <a:t> Ineligible for Competition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66" name="TextBox 33"/>
          <p:cNvSpPr/>
          <p:nvPr/>
        </p:nvSpPr>
        <p:spPr>
          <a:xfrm>
            <a:off x="321480" y="6427800"/>
            <a:ext cx="7418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Note: All SAs in yellow area would be ineligible for competition only.  New sliding scale for competition requires HSCGPA ~ 0.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units higher for given test score compared to current ru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1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6D70-5E5C-48AE-96A7-EADB5226615A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Calibri"/>
              </a:rPr>
              <a:t>New Initial-Eligibility Standar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Calibri"/>
              </a:rPr>
              <a:t>Practice and Athletics Ai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182520" y="1676520"/>
            <a:ext cx="873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  <a:ea typeface="Calibri"/>
              </a:rPr>
              <a:t>Academic Redshirt Standard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Requires PSAs to meet the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  <a:ea typeface="Calibri"/>
              </a:rPr>
              <a:t>current qualifier standard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for eligibility for practice during the first regular academic term and receipt of athletically related financial aid during the first year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Second semester (and second and third quarter) eligibility for practice based on successful completion of  nine semester or eight quarter hours in the first regular academic term of enrollment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Note:  PSAs who fails to meet the new core-course requirement may meet the academic redshirt standard by earning the current 16 core-course requirements among other standards noted in this presentatio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6EB6-2301-45E2-B1E4-35063B28F1FB}" type="slidenum"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8:41:32Z</dcterms:created>
  <dc:creator>Mark Koski</dc:creator>
  <dc:description/>
  <dc:language>en-US</dc:language>
  <cp:lastModifiedBy>Karissa</cp:lastModifiedBy>
  <cp:lastPrinted>2012-01-19T13:15:23Z</cp:lastPrinted>
  <dcterms:modified xsi:type="dcterms:W3CDTF">2012-01-20T13:42:38Z</dcterms:modified>
  <cp:revision>248</cp:revision>
  <dc:subject/>
  <dc:title>Site Selections for  Future NFHS Meetings</dc:title>
</cp:coreProperties>
</file>